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7535-F32F-4636-9C07-E756C5499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2E68-D9BB-44AE-8542-BEAC999C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3312-9636-4037-A796-A8AF6C9BF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FF1C-A543-4243-993D-BFD6A1B2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7FB4-C486-4240-9388-6E615D02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0A1D-0A50-4C21-99F1-EFC76589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8943A-D1A7-46FC-B166-1D3C7E36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BFE8-356D-4FAF-B7BA-500D15DC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0D8E-D307-4101-8210-79044A0D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1A5A-C524-4891-8809-DAC6A562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8979-6587-4ACB-A9CB-01103B69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4BE8-2911-4429-B387-AB9405C6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1DCE-0591-4FD8-9FA1-F2155824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528A4-2CC4-4C0D-A388-CAE5409C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A66D-5AA0-4BBA-B269-A959FD70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4C87-E63B-4D63-979C-AA5B0136D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5C5D-052C-4CC0-85BE-788D62BED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F606-C10A-4FD0-BAED-4E0C0AE0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BF18-6CC2-4F03-90BB-CD734BE5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0471-419D-4034-AA72-1DDFC625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4106-59E4-466A-8999-E3DA70C6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9EBF-4867-44D5-8E45-874EC226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C4D8-390D-4222-914B-ED22FC5E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1F83-307A-473E-9A7E-495C8129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7DB9-85A7-4708-823B-EBB33C14251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77B4-0F12-4737-953B-752D52D7FEE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999900"/>
                </a:solidFill>
                <a:latin typeface="Garamond"/>
              </a:rPr>
              <a:t>Using Simulation in an Occupational Health Practice</a:t>
            </a:r>
            <a:endParaRPr b="0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mon J. Samah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MBA J0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cision Model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imulation project and issues fac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sues fac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ff was reluctant and did not like the idea of someone timing and collecting data about their proce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istics collected were inaccurate becau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or service defini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d not always discriminate between walk-ins and schedul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ta entry was not accura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me &amp; motion study was incomplete and for one week on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59A6-98DE-481E-9CB3-B4B1C8D4BD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imulation project and issues fac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t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too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mbedding variables inside processes definition was chall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ing rule-based processes was chall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ing the user interface was challen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able to figure out how to combine two  resources (nurse and roo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8462-EFC0-40FE-B9B4-8C2A190678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2280" y="114480"/>
            <a:ext cx="8991720" cy="674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1AAA-97EE-4089-B77C-4EEF8A0EBC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odel design(Extend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 types of entities are crea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entity is assigned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scor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dicating the resource consumption of registration, nursing and 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d Throw/catch to direct registration into 3 catego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bined flow out of regist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E5B0-1D6F-4667-AB37-EEC97C9CBD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odel design(Extend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d Get Value to determine nursing us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bined f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d Get Value to test whether required physician time if not discharge, otherwi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d Time sensor to determine time in the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D272-7723-43C0-9E8B-9275F4EB68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odel design(Extend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co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x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able to analyze based on entity ty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FCC3-1C8D-4F06-AFE2-8C727A52E6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odel design(Arena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696080" cy="501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3A75-5F80-4CCE-BAAE-374767B5EF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odel design(Arena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t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80880" y="2362320"/>
          <a:ext cx="8305920" cy="2946240"/>
        </p:xfrm>
        <a:graphic>
          <a:graphicData uri="http://schemas.openxmlformats.org/drawingml/2006/table">
            <a:tbl>
              <a:tblPr/>
              <a:tblGrid>
                <a:gridCol w="2076480"/>
                <a:gridCol w="2076480"/>
                <a:gridCol w="2076480"/>
                <a:gridCol w="207648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arriv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ximum per 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ity per arriv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heduled follow-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iangular(14,18,2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heduled N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iangular(40,50,7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alk-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isson(2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x_unsched (variable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Physic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iangular(12,16,2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838080" y="56386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x_unsched set initially at 10 and then used in optimiz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AC60-6AC6-45DE-ACED-52B374E062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odel design(Arena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istr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xed Capacit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xed Capacit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rs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xed Capacit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xed Capacit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4CC9-8F15-4CBF-A1BA-F22EC100C9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odel design(Arena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es: used triangular distribution (min, mode, max) in minu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09480" y="2971800"/>
          <a:ext cx="8076960" cy="31590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  <a:gridCol w="2018880"/>
                <a:gridCol w="201960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ist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r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hysici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heduled follow-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,12,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,8,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heduled Ne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,17,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6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,12,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alk-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,17,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,8,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,20,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Physici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,17,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,30,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B59E-B09D-4A60-B21C-61A34DEB63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verview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an occupational health clinic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halle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mulation project and issues fac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ener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re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m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comes and next ste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616F-841B-40F7-BAA7-7EDD492615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odel design(Arena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set-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1 hours per day (to make sure all entities clea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0 ru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14AC-4E8F-4463-9991-FC2B55A257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Finding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el physician (2) + walk-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verage # patient/day: 6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33520" y="2895480"/>
            <a:ext cx="8381880" cy="341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3624-5A81-492B-8117-97AA2F9606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Finding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8001000" cy="4125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848720" y="2590920"/>
            <a:ext cx="53316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9920" y="380880"/>
            <a:ext cx="2133360" cy="685800"/>
          </a:xfrm>
          <a:prstGeom prst="wedgeRectCallout">
            <a:avLst>
              <a:gd name="adj1" fmla="val 40773"/>
              <a:gd name="adj2" fmla="val 2710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ds never used at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399A-AF52-4FEE-BCC1-DAE0C5CC77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Finding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el physician (1) + walk-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verage # patient/day: 6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04920" y="2514600"/>
            <a:ext cx="8458200" cy="41259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819520" y="2590920"/>
            <a:ext cx="990360" cy="1371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52680" y="609480"/>
            <a:ext cx="2133720" cy="685800"/>
          </a:xfrm>
          <a:prstGeom prst="wedgeRectCallout">
            <a:avLst>
              <a:gd name="adj1" fmla="val -43518"/>
              <a:gd name="adj2" fmla="val 24444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me increased by ~ 0.2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E6BA-D644-4873-A6A2-11AA6C1AD2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Finding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14400" y="1936800"/>
            <a:ext cx="8001000" cy="4311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8381880" y="2438280"/>
            <a:ext cx="533520" cy="3812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29400" y="762120"/>
            <a:ext cx="2133720" cy="685800"/>
          </a:xfrm>
          <a:prstGeom prst="wedgeRectCallout">
            <a:avLst>
              <a:gd name="adj1" fmla="val 37203"/>
              <a:gd name="adj2" fmla="val 1932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Beds never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0EB4-5886-4E27-A278-6CB4C4675BA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Finding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walk-in (maximum new patient increased to 20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verage #patient/day: 5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04920" y="2895480"/>
            <a:ext cx="8839080" cy="39625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200400" y="3581280"/>
            <a:ext cx="609480" cy="6098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62320" y="228600"/>
            <a:ext cx="4495680" cy="685800"/>
          </a:xfrm>
          <a:prstGeom prst="wedgeRectCallout">
            <a:avLst>
              <a:gd name="adj1" fmla="val -22986"/>
              <a:gd name="adj2" fmla="val 43726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~0.6 hours less for patients requiring physician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1D9C-2567-43F0-BE8F-49B772C7F38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Finding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914400" y="1936800"/>
            <a:ext cx="7924680" cy="446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5E9B-FC15-48BB-A3FB-F3B0437E270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ptimiz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the optimal set up to minimize total time for scheduled new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cision variables &amp; constrai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beds (4-7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nurses (2-4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mber of physicians (1-2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1523880" y="4876920"/>
            <a:ext cx="6629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mulation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inimizepat_sched_n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talTim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urs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y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6790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60351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est:  17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.57444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61A8-BBB3-4EA0-AF0F-39D370E3078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ptimiz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loyers requested &lt; 1.25 hour total time for scheduled new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is optimal solution and maximum scheduled follow-up patients, with following variables and constrai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ds (4-7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 (1-2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rses (2-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9035-77A7-4622-B6CA-385951D7FA2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09480" y="1143000"/>
            <a:ext cx="8534520" cy="40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mulation max_sched_fu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t_sched_new.TotalTime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d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urs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hy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.57260 - Infeasi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.41463 - Infeasi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.48438 - Infeasib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0.986956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.11875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.22135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Best:  69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8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1.18466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540C-441F-434B-9B50-3831A0E5B25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What is an occupational health clinic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patient clinic where we provide employment related health servi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though the service is provided to the employee, the employer is the ultimate custom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loyer interes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 during normal business hour only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ick turn-around time so the employee returns to 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4EC5-5E65-4473-BFBE-B28792E92A7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clus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lk-ins do have a negative on total time for scheduled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need to repeat the simulation &amp; optimization aft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perform a proper time and motion stud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 improve data col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lude cost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7937-9DCE-43D5-BCD8-DC5F9F5C5AC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What is an occupational health clinic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vices provided to (entities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heduled new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heduled follow-u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lk-in: essentially an unscheduled new patient (usually work related injury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n-physician services such as immun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1734-BEFE-49C7-9DAB-103A489439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What is an occupational health clinic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urc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: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rses: 3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istrars: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ination rooms: 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CBD0-7CE1-48F0-A975-206BFFA273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What is an occupational health clinic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istration: requires registrar (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ursing: requires nurse(1) + examination room(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 – not all patients – requires physician(1) + examination room(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3BE3-A348-4048-9227-9BFEF4FF0F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e challeng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nce we do have to see injured patients same day, we MUST take walk-in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impacts our schedule because we cannot predict when and how many patients will walk 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1A72-E32F-4EAA-9EC3-D9A346F057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e challeng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rpose of the stu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y the impact of walk-in on scheduled new 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udy the impact of having one physician instead of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7459-202E-4B47-91A5-8C4CFCC65A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imulation project and issues face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ps involved in designing the sim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ow chart of the ope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cumentation of re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 and motion stud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llected time in and time out at every step for 1 wee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lume statistics to correlate with time and motion stud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ed the model in Arena and EXte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C3CF-CFDD-4D4A-B7D4-B14BB7281A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21:09:33Z</dcterms:created>
  <dc:creator>samaha-simon</dc:creator>
  <dc:description/>
  <dc:language>en-US</dc:language>
  <cp:lastModifiedBy>Simon Samaha</cp:lastModifiedBy>
  <dcterms:modified xsi:type="dcterms:W3CDTF">2004-08-03T04:01:07Z</dcterms:modified>
  <cp:revision>7</cp:revision>
  <dc:subject/>
  <dc:title>Using Simulation in an Occupational Health Practice</dc:title>
</cp:coreProperties>
</file>